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6F1-55D6-4A2E-A632-DBDEE2BE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8C1-91AE-46D0-9BEE-63690AE8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C5C-17AF-47EB-9DF6-245BB694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19F-916B-4917-899F-6D2EA148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29A-0B0F-4FDE-90B8-2EF8D530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5E7-399E-4DD6-9957-DBB00BE4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E78-FF2D-4C47-9FD6-CAE602E0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F8B-97AE-4960-B81A-39D589D3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BDC-BF35-437C-BADF-F4849B53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49C-3AEF-445E-BEFD-78F0887B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4AA-AA6F-4FB4-9AC8-C56D55FA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DE7-9B16-4B23-8FF8-3D473E78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DE8D-33E2-4EBF-B43E-0DE078F37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5:45:00Z</dcterms:created>
  <dc:creator>768984</dc:creator>
  <dc:description/>
  <dc:language>en-US</dc:language>
  <cp:lastModifiedBy>768984</cp:lastModifiedBy>
  <dcterms:modified xsi:type="dcterms:W3CDTF">2009-04-17T15:51:14Z</dcterms:modified>
  <cp:revision>4</cp:revision>
  <dc:subject/>
  <dc:title>Slide 1</dc:title>
</cp:coreProperties>
</file>